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A36-5961-40ED-B7FF-B25AAA36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747B-D0B9-4D55-A7D7-D1D1A01A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3B51-F020-4C7A-B43F-5267897B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004-A745-45DA-B40B-7C579A1B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4B1-5D46-4CDD-AF5B-A9F21C43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BC9-17CE-4A38-83CB-60B27A94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4AB-C855-45AF-9196-760043E6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0435-B9FB-45EF-B7FF-DD14ACC0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068A-1F58-4664-BB6A-73DC17B7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8C7-D607-4BD3-AA01-3AB5B3AF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6D6-9007-45E6-91AE-AF8DFEA6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2635-7258-4F51-9126-704340ED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7745-3481-4236-81E5-3CE54C968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s://vk.com/shkola_abv" TargetMode="External"/><Relationship Id="rId3" Type="http://schemas.openxmlformats.org/officeDocument/2006/relationships/hyperlink" Target="https://vk.com/shkola_abv" TargetMode="External"/><Relationship Id="rId4" Type="http://schemas.openxmlformats.org/officeDocument/2006/relationships/hyperlink" Target="https://www.shkola-abv.ru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icture background"/>
          <p:cNvPicPr/>
          <p:nvPr/>
        </p:nvPicPr>
        <p:blipFill>
          <a:blip r:embed="rId1"/>
          <a:stretch/>
        </p:blipFill>
        <p:spPr>
          <a:xfrm>
            <a:off x="2195640" y="189000"/>
            <a:ext cx="4694040" cy="64087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lh4.googleusercontent.com/RZNqj0PRak44IyFKjKGLpTG6lBuKRNQFcJRRWCg5IRb0aYkpAM7mTGuirfd8gZviyCAAFv2Eq56nYdcEc3zS4yWHulK_alQdSmdkrdlCuhLDpMkJbdAMXu0knHRe26nh2u6bVK_m"/>
          <p:cNvPicPr/>
          <p:nvPr/>
        </p:nvPicPr>
        <p:blipFill>
          <a:blip r:embed="rId1"/>
          <a:stretch/>
        </p:blipFill>
        <p:spPr>
          <a:xfrm>
            <a:off x="395280" y="476280"/>
            <a:ext cx="8285040" cy="5654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lh5.googleusercontent.com/YFUJAsjmhQCRzmZR_x2H0uyeevIr39pYGAWp5l1IhDTQjtCFI4yhi86kbgfnrPoCHyxdWMALZOjfot7fPVyG0MDQSASG6MTMuLgi-ZDMMbqyYRW-ngSOrrhungjcr58cuMhq3go3"/>
          <p:cNvPicPr/>
          <p:nvPr/>
        </p:nvPicPr>
        <p:blipFill>
          <a:blip r:embed="rId1"/>
          <a:stretch/>
        </p:blipFill>
        <p:spPr>
          <a:xfrm>
            <a:off x="1116000" y="404640"/>
            <a:ext cx="7620120" cy="645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lh5.googleusercontent.com/D0pKm72R_J-GtuTHqlRZtdHe2IFjS3d2B94FRoy44UrM0XP8O-qI_a0MqrvT_issQSeZ17ffY-eeqZ2gte5HehnWkrVcEB80e2x-2YQSMw6BZt7V-yId_MhRPdYUovXYYgYKKLuH"/>
          <p:cNvPicPr/>
          <p:nvPr/>
        </p:nvPicPr>
        <p:blipFill>
          <a:blip r:embed="rId1"/>
          <a:stretch/>
        </p:blipFill>
        <p:spPr>
          <a:xfrm>
            <a:off x="2484360" y="0"/>
            <a:ext cx="4214880" cy="662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s://lh6.googleusercontent.com/7u0skeB2UKKJ7sviLCrDezaGw29nb2wiW_1gMELoHi7ajDbWccPxwO-qpSpnFZcWp94s88FzhwcoxMODCFQ0gUT1fV8GTtoQQujylW2OBGZgt7uvCINB_bvbZNmZ2gXU0iWkL4ko"/>
          <p:cNvPicPr/>
          <p:nvPr/>
        </p:nvPicPr>
        <p:blipFill>
          <a:blip r:embed="rId1"/>
          <a:stretch/>
        </p:blipFill>
        <p:spPr>
          <a:xfrm>
            <a:off x="539640" y="260280"/>
            <a:ext cx="8099640" cy="607536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s://lh5.googleusercontent.com/5c9dja7X3wRtX-ONQ_9vFQNgEnHSJMav8B6d2dC0A3uo0hVlKnt7ysZ6zJJDkh5NxaLJnGpPZ_FmBrrX7MOUg-iqpMU-geSvgk-hCCGAMsmtMvdrzfXR1fQrEkE5G9zr8DnAFkXU"/>
          <p:cNvPicPr/>
          <p:nvPr/>
        </p:nvPicPr>
        <p:blipFill>
          <a:blip r:embed="rId1"/>
          <a:stretch/>
        </p:blipFill>
        <p:spPr>
          <a:xfrm>
            <a:off x="1619280" y="189000"/>
            <a:ext cx="5653080" cy="626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lh3.googleusercontent.com/FKalsgpp6hGBBTzmAG1wu3DeSAWL4s1V7jc0bl-nLe9gcIg0W62j_Hqxl-WVxASpgHoui7FZmeSOa12Cik66RtvggZDqOJ1u7QYabLWITofoLV9h0bh0DyUw0Mi-PWPht9djiUY1"/>
          <p:cNvPicPr/>
          <p:nvPr/>
        </p:nvPicPr>
        <p:blipFill>
          <a:blip r:embed="rId1"/>
          <a:stretch/>
        </p:blipFill>
        <p:spPr>
          <a:xfrm>
            <a:off x="684360" y="692280"/>
            <a:ext cx="8157960" cy="544644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lh3.googleusercontent.com/7w3iN5uKFDT21lRu8mEKUi6R1tNzNHHwJmk_gImAR1-lPHodQxVCA05ZdTOCg75rfwt0LVn63viwW9BBCl9u3g61ryFQHIFb9RMiWwATUMpx3-oRIcoKXVk_ZdletNBybf_iQN3p"/>
          <p:cNvPicPr/>
          <p:nvPr/>
        </p:nvPicPr>
        <p:blipFill>
          <a:blip r:embed="rId1"/>
          <a:stretch/>
        </p:blipFill>
        <p:spPr>
          <a:xfrm>
            <a:off x="324000" y="1197000"/>
            <a:ext cx="8515080" cy="478944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60" name="Прямоугольник 2"/>
          <p:cNvSpPr/>
          <p:nvPr/>
        </p:nvSpPr>
        <p:spPr>
          <a:xfrm>
            <a:off x="551520" y="33336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ак нарисовать кам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icture background"/>
          <p:cNvPicPr/>
          <p:nvPr/>
        </p:nvPicPr>
        <p:blipFill>
          <a:blip r:embed="rId1"/>
          <a:stretch/>
        </p:blipFill>
        <p:spPr>
          <a:xfrm>
            <a:off x="558720" y="404640"/>
            <a:ext cx="7975800" cy="604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Picture background"/>
          <p:cNvPicPr/>
          <p:nvPr/>
        </p:nvPicPr>
        <p:blipFill>
          <a:blip r:embed="rId1"/>
          <a:srcRect l="0" t="13638" r="6353" b="0"/>
          <a:stretch/>
        </p:blipFill>
        <p:spPr>
          <a:xfrm>
            <a:off x="395280" y="476280"/>
            <a:ext cx="8432640" cy="604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icture background"/>
          <p:cNvPicPr/>
          <p:nvPr/>
        </p:nvPicPr>
        <p:blipFill>
          <a:blip r:embed="rId1"/>
          <a:stretch/>
        </p:blipFill>
        <p:spPr>
          <a:xfrm>
            <a:off x="2340000" y="260280"/>
            <a:ext cx="4753080" cy="634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ture background"/>
          <p:cNvPicPr/>
          <p:nvPr/>
        </p:nvPicPr>
        <p:blipFill>
          <a:blip r:embed="rId1"/>
          <a:srcRect l="77589" t="0" r="0" b="0"/>
          <a:stretch/>
        </p:blipFill>
        <p:spPr>
          <a:xfrm>
            <a:off x="250920" y="1700280"/>
            <a:ext cx="2208240" cy="3313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s://lh4.googleusercontent.com/PNFClhwwLwQdGz9ii-cSWDNwnFlMR4YMy0Ki03PctN2OR857wReqTvR8lEH2ktjG0KxS8As8oLc4Rd-ec5FpQfnls0vDU7V1Q8GUDRfoNnIJGajgGxzsOxHQWailmgE-FD1nhjf2"/>
          <p:cNvPicPr/>
          <p:nvPr/>
        </p:nvPicPr>
        <p:blipFill>
          <a:blip r:embed="rId2"/>
          <a:srcRect l="61807" t="54547" r="2406" b="3406"/>
          <a:stretch/>
        </p:blipFill>
        <p:spPr>
          <a:xfrm>
            <a:off x="5724360" y="1628640"/>
            <a:ext cx="3024360" cy="2664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4" name="Picture 2" descr="Picture background"/>
          <p:cNvPicPr/>
          <p:nvPr/>
        </p:nvPicPr>
        <p:blipFill>
          <a:blip r:embed="rId3"/>
          <a:srcRect l="58984" t="64707" r="9063" b="3519"/>
          <a:stretch/>
        </p:blipFill>
        <p:spPr>
          <a:xfrm>
            <a:off x="2700360" y="2781360"/>
            <a:ext cx="2663640" cy="3836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242640" y="404640"/>
            <a:ext cx="876708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Рисуем новогодние игруш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172200" cy="6276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icture background"/>
          <p:cNvPicPr/>
          <p:nvPr/>
        </p:nvPicPr>
        <p:blipFill>
          <a:blip r:embed="rId1"/>
          <a:stretch/>
        </p:blipFill>
        <p:spPr>
          <a:xfrm>
            <a:off x="2411280" y="189000"/>
            <a:ext cx="5079960" cy="63356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icture background"/>
          <p:cNvPicPr/>
          <p:nvPr/>
        </p:nvPicPr>
        <p:blipFill>
          <a:blip r:embed="rId1"/>
          <a:stretch/>
        </p:blipFill>
        <p:spPr>
          <a:xfrm>
            <a:off x="826920" y="404640"/>
            <a:ext cx="7913880" cy="379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icture background"/>
          <p:cNvPicPr/>
          <p:nvPr/>
        </p:nvPicPr>
        <p:blipFill>
          <a:blip r:embed="rId1"/>
          <a:stretch/>
        </p:blipFill>
        <p:spPr>
          <a:xfrm>
            <a:off x="243000" y="620640"/>
            <a:ext cx="8704080" cy="54831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icture background"/>
          <p:cNvPicPr/>
          <p:nvPr/>
        </p:nvPicPr>
        <p:blipFill>
          <a:blip r:embed="rId1"/>
          <a:stretch/>
        </p:blipFill>
        <p:spPr>
          <a:xfrm>
            <a:off x="477720" y="476280"/>
            <a:ext cx="8278920" cy="59770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icture background"/>
          <p:cNvPicPr/>
          <p:nvPr/>
        </p:nvPicPr>
        <p:blipFill>
          <a:blip r:embed="rId1"/>
          <a:stretch/>
        </p:blipFill>
        <p:spPr>
          <a:xfrm>
            <a:off x="1042920" y="260280"/>
            <a:ext cx="7058160" cy="5102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72" name="TextBox 2"/>
          <p:cNvSpPr/>
          <p:nvPr/>
        </p:nvSpPr>
        <p:spPr>
          <a:xfrm>
            <a:off x="1774080" y="5661000"/>
            <a:ext cx="52905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борка «Школа АБВ»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vk.com/shkola_ab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www.shkola-abv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cture background"/>
          <p:cNvPicPr/>
          <p:nvPr/>
        </p:nvPicPr>
        <p:blipFill>
          <a:blip r:embed="rId1"/>
          <a:stretch/>
        </p:blipFill>
        <p:spPr>
          <a:xfrm>
            <a:off x="684360" y="549360"/>
            <a:ext cx="8197560" cy="54720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lh3.googleusercontent.com/VHcintQg4TMt1j_wUEws1yE2mUE63hCi71u4ZO6UPF3EPC7NLJzIOCLabK_fnupaRLA7l2XEmH78wXSvJqMTvPVm5eqy0eNSZu1hbLHi3ynp23um5wWYUYnYgz1p4reMtoRpGjEj"/>
          <p:cNvPicPr/>
          <p:nvPr/>
        </p:nvPicPr>
        <p:blipFill>
          <a:blip r:embed="rId1"/>
          <a:stretch/>
        </p:blipFill>
        <p:spPr>
          <a:xfrm>
            <a:off x="528480" y="237960"/>
            <a:ext cx="8272800" cy="635976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icture background"/>
          <p:cNvPicPr/>
          <p:nvPr/>
        </p:nvPicPr>
        <p:blipFill>
          <a:blip r:embed="rId1"/>
          <a:stretch/>
        </p:blipFill>
        <p:spPr>
          <a:xfrm>
            <a:off x="395280" y="2276640"/>
            <a:ext cx="8353440" cy="28098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lh4.googleusercontent.com/PNFClhwwLwQdGz9ii-cSWDNwnFlMR4YMy0Ki03PctN2OR857wReqTvR8lEH2ktjG0KxS8As8oLc4Rd-ec5FpQfnls0vDU7V1Q8GUDRfoNnIJGajgGxzsOxHQWailmgE-FD1nhjf2"/>
          <p:cNvPicPr/>
          <p:nvPr/>
        </p:nvPicPr>
        <p:blipFill>
          <a:blip r:embed="rId1"/>
          <a:stretch/>
        </p:blipFill>
        <p:spPr>
          <a:xfrm>
            <a:off x="430200" y="260280"/>
            <a:ext cx="8448840" cy="633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ture background"/>
          <p:cNvPicPr/>
          <p:nvPr/>
        </p:nvPicPr>
        <p:blipFill>
          <a:blip r:embed="rId1"/>
          <a:stretch/>
        </p:blipFill>
        <p:spPr>
          <a:xfrm>
            <a:off x="47520" y="907920"/>
            <a:ext cx="8929800" cy="516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icture background"/>
          <p:cNvPicPr/>
          <p:nvPr/>
        </p:nvPicPr>
        <p:blipFill>
          <a:blip r:embed="rId1"/>
          <a:stretch/>
        </p:blipFill>
        <p:spPr>
          <a:xfrm>
            <a:off x="2556000" y="260280"/>
            <a:ext cx="4381200" cy="634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lh6.googleusercontent.com/AeiC2CcSsm_euYr6A_0HGpa8L1M-puQNPdxczB4ldIWD5kvucMszceZ4elkxn2F8QideBFo5ZsEkNZ8gLcoenDD1tesm-w7IzjtkxtjOsQiBHfTbVtvP7BsevSnRd6g8vEWiJl8L"/>
          <p:cNvPicPr/>
          <p:nvPr/>
        </p:nvPicPr>
        <p:blipFill>
          <a:blip r:embed="rId1"/>
          <a:stretch/>
        </p:blipFill>
        <p:spPr>
          <a:xfrm>
            <a:off x="431640" y="836640"/>
            <a:ext cx="8591760" cy="573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4T04:00:41Z</dcterms:created>
  <dc:creator>Елена Берюхова</dc:creator>
  <dc:description/>
  <dc:language>en-US</dc:language>
  <cp:lastModifiedBy>Берюхов</cp:lastModifiedBy>
  <dcterms:modified xsi:type="dcterms:W3CDTF">2025-12-24T13:18:08Z</dcterms:modified>
  <cp:revision>13</cp:revision>
  <dc:subject/>
  <dc:title>Слайд 1</dc:title>
</cp:coreProperties>
</file>